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6DF71B-CD33-4FFB-91FF-05FF5EF68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FF0124-617E-4448-AB61-4C69FD700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4CA682-053D-4052-A1DA-3B0976B6740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1279B7-67B0-445F-A3DF-922E78A8D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C8EAD0-CEAC-458A-8E05-CE10672B393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187037-21F8-4485-86BE-C2EA83484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A6C338-68DA-4870-842C-944EF3ED395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1A266D-0FC2-4C08-86FB-7A1D82E93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81F399-F754-4C49-B9DB-9F772556353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694318-CB60-4C0D-B5C9-0A3A9C8B5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CB50B6-7B80-4A12-AAE2-A700936F688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EB2F17-02B8-4FF8-B009-85B71410A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1EB1BD-3688-49FF-A4F6-1B1C9C30646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74206E-7ABA-42C4-9A1D-FDDF04E72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6C1D30-431A-47D4-8E52-D1900922E4F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5C2AAE-96CE-4638-B772-63BC38230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739A2E-C0CA-46B7-AF17-D8308185830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8345C1-F1EB-485F-98D3-BF92A0D7C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C022FE-4952-4DA0-96FC-64E92F67FB1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0923A5-95C8-4D78-AD79-F93571648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FAAA84-7B1A-4224-B01B-45668B7683D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E6EF5B-EDA1-45EF-94BE-707941BB9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73AB3B-993E-49DC-90FA-670F990D56F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476FEF-1E7D-4986-A2CD-15E400B3C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6E24C5-C71A-4B75-91C4-A8D1FA54878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809DE4-1085-4214-BC08-C05C0EB70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0DA476-126F-4ACB-80F0-81FE1132183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6F491B1-DEDC-4FC6-BD6F-A7CEEF2C4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Espaço Reservado para Rodapé 3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ço Reservado para Número de Slid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569866-231A-4761-9163-E5101899220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61E88C-834B-4926-8E14-EC5C17AC2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quencia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ram a interação entre os objetos através de raias que são colocadas sempre à direita de cada novo objeto, as mensagens para cada objeto seguem uma ordem vertical de cima para baixo, com isso a clareza dessas mensagens é evid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432BDF-7B65-452C-88DA-51982710183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C566BF-12D9-47DB-9B7E-CA280AB99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quencia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ram a interação entre os objetos através de raias que são colocadas sempre à direita de cada novo objeto, as mensagens para cada objeto seguem uma ordem vertical de cima para baixo, com isso a clareza dessas mensagens é evid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5A4637-5F8F-4802-B49D-750E88534BA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B87E45-FDF9-43AB-AE7E-6EE719CEF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quencia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ram a interação entre os objetos através de raias que são colocadas sempre à direita de cada novo objeto, as mensagens para cada objeto seguem uma ordem vertical de cima para baixo, com isso a clareza dessas mensagens é evid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11AA1E-9424-4691-BD3E-0DDEB698738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455455-4CC8-4D3D-989B-98900BDFB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3A995D-3792-4B90-992F-B16F19630A1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A8EF10-0958-4F20-8B5E-E394C59FA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quencia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ram a interação entre os objetos através de raias que são colocadas sempre à direita de cada novo objeto, as mensagens para cada objeto seguem uma ordem vertical de cima para baixo, com isso a clareza dessas mensagens é evid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B3E63C-08C3-4669-B2BB-450E4EC8FC2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3FF994-4C28-4970-95C4-B16DC234E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73A007-AC79-4AE8-B872-F5028FF06B9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F9F435-3462-4E64-86E1-194CDC177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F0110A-A0A0-4245-85D5-9BB33DCDCCF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8D1-4B1E-41EE-8172-7D7828A9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A2BC-3A80-4B74-A9D0-0DFF4CEA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12F-64CC-4A29-8B24-70C90D0D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B2B-2CB6-4B48-9E83-A36F9345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B56-D46A-4060-A8F6-B56A8E60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5B87-D9B8-427A-8091-A2342828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99C-46B4-4D95-9C75-5D597DA6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3C1-5D76-4CB1-93CA-312D35B5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4CA-ED22-4A70-A5F7-8FEA2CAC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6C46-96E5-4243-A7D6-F2C5AB73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D0C-8CFD-465E-8F88-905315DC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231-EB38-4D02-849B-2F3510AE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458B-7288-4B43-A73E-99CB3244C2B3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1020-DE5A-4D9C-8C00-615DC681F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E092-DD3E-472D-ADA7-E4826A98AFDB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9F3C-D346-44CF-B7B0-4EB8D884E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64216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IÊNCIA DA COMPUTAÇÃO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ESENVOLVIMENTO DE SISTEMAS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ula 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52" name="Espaço Reservado para Rodapé 7"/>
          <p:cNvSpPr/>
          <p:nvPr/>
        </p:nvSpPr>
        <p:spPr>
          <a:xfrm>
            <a:off x="61128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181B-1F97-441E-B761-E0BA50F8AD76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8396-F51D-47CC-8AE3-13E742D4C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08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rtões (Gates) -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m ser representados de duas form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ncontro da seta da mensagem no retângulo da ocorrência de int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equeno quadrado podendo ser atingido por uma mensagem ou a mensagem partindo d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1332000" y="4076640"/>
            <a:ext cx="2638440" cy="2171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4500720" y="4508640"/>
            <a:ext cx="296208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D630-7553-4969-BA6B-D9D9B4C87CD2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9319-8EFE-424B-85E9-6F798B5AD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16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os combinados (FC) e Operadores de Interação (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Versões anteriores a UML 2.0 tinham dificuldades de modelar testes se-senão, laços ou processamentos paral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 partir da UML 2.0 dificuldades foram abordadas com uso de FC´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presentados por um retângulo que determina abrangência do fragmento de diagrama e uma subdivisão no canto superior esquerdo para identificar a descrição do fragmento combinado e seu operador de inter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18D8-77FD-48DC-81E4-C4DAB6BC5D56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7BAE-3F7D-45FA-9414-A46EA5CE5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22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mais com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LT (Alternatives) – Define que fragmento combinado representa a escolha entre dois ou mais comport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2843280" y="3429000"/>
            <a:ext cx="38894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1C4D-341A-48A5-95B6-A56894619C8E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A077-8715-4C6A-90CD-23538C175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29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LT (Alternatives) – Fragmentos combinados tem ao menos uma divisão por linha tracej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ada uma dessas divisões é chamada de separador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ndo de int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m fragmento combinado contem ao menos um operando de int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t (Option) –Determina que o fragmento combinado representa uma escolha de comportamento que será ou não executado, não tendo escolha entre maiss de um comportamento possí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AF0D-E892-44B8-87C6-D8BF0211F9E8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2454-66CB-421F-87B9-F59CA987F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35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448812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7528-7F33-4E88-8472-B38A9690FE93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B265-A8A5-4F0E-AC85-46CBB38AA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42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ço Reservado para Conteúdo 2"/>
          <p:cNvSpPr/>
          <p:nvPr/>
        </p:nvSpPr>
        <p:spPr>
          <a:xfrm>
            <a:off x="620640" y="206856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ar (Parallel) – Determina que fragmento combinado representa execução paralela de dois ou mais comporta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2627280" y="3213000"/>
            <a:ext cx="35751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0682-C7CE-49F2-8374-6BFF16BA842D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B35D-9C9C-40EA-BD19-79DF5CFFC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50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ço Reservado para Conteúdo 2"/>
          <p:cNvSpPr/>
          <p:nvPr/>
        </p:nvSpPr>
        <p:spPr>
          <a:xfrm>
            <a:off x="620640" y="206856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oop (Looping) – Determina que o fragmento combinado representa um laço que pode se repetir varias vez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1835280" y="3068640"/>
            <a:ext cx="5545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1B27-0CE0-4500-8939-6E7F7DC9C74E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3087-11E9-46A5-AB67-19AC36C72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58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ço Reservado para Conteúdo 2"/>
          <p:cNvSpPr/>
          <p:nvPr/>
        </p:nvSpPr>
        <p:spPr>
          <a:xfrm>
            <a:off x="620640" y="206856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Break (Quebra) Determina quebra de execução normal do processo, usado principalmente para modelar tratamento de exce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1908000" y="3357720"/>
            <a:ext cx="561672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D879-BAC1-43C3-AC9A-09544AD67394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4CA4-5EED-4EE9-9A55-8F915A7E6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66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spaço Reservado para Conteúdo 2"/>
          <p:cNvSpPr/>
          <p:nvPr/>
        </p:nvSpPr>
        <p:spPr>
          <a:xfrm>
            <a:off x="620640" y="206856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ritical Region (Região critica) – Identifica operação atômica que não pode ser interrompida por outro processo até ser concluí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1333440" y="3213000"/>
            <a:ext cx="59515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A783-1EE4-40C9-AF0A-9E39A5414DDA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D43A-3382-4E26-9CB2-9E3B72A93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74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ço Reservado para Conteúdo 2"/>
          <p:cNvSpPr/>
          <p:nvPr/>
        </p:nvSpPr>
        <p:spPr>
          <a:xfrm>
            <a:off x="620640" y="206856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stado invariante – Restrição de tempo de execução aplicada aos participantes da Inte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 ser usada para especificar diferentes tipos de restrições como valores ou atributos variáveis, estados internos ou exter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É um fragmento de interação e deve ser colocado sobre a linha da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8DE3-6233-4A39-BE6A-77D93E09348A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E463-2FB2-49A5-8CC0-9120CD6A0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56" name="Espaço Reservado para Rodapé 7"/>
          <p:cNvSpPr/>
          <p:nvPr/>
        </p:nvSpPr>
        <p:spPr>
          <a:xfrm>
            <a:off x="755640" y="6165720"/>
            <a:ext cx="82090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ço Reservado para Conteúdo 2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agrama de sequenci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nsagens perdidas e Mensagens encont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mentos de Op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orrências de Int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tões (G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mentos combinados e operadores de Inte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do Invar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rc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5DD2-D874-464A-A427-C133CA906CF6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299C-382C-443C-8310-AE96A5787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81" name="Espaço Reservado para Rodapé 7"/>
          <p:cNvSpPr/>
          <p:nvPr/>
        </p:nvSpPr>
        <p:spPr>
          <a:xfrm>
            <a:off x="755640" y="6165720"/>
            <a:ext cx="82090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ço Reservado para Conteúdo 2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39640" y="1844640"/>
            <a:ext cx="808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rcíc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 base no Material de apoio, reúna os grupos e temas utilizados nos trabalhos anteriores  desenvolva os diagramas de sequencia relacionado a cada gru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7DC0-173F-419C-AD35-37F519864D90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3B9B-EB2A-4019-A28F-006E1C2E4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spaço Reservado para Rodapé 3"/>
          <p:cNvSpPr/>
          <p:nvPr/>
        </p:nvSpPr>
        <p:spPr>
          <a:xfrm>
            <a:off x="1476360" y="6237360"/>
            <a:ext cx="6697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magem 15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611280" y="1197000"/>
          <a:ext cx="7921440" cy="4825800"/>
        </p:xfrm>
        <a:graphic>
          <a:graphicData uri="http://schemas.openxmlformats.org/drawingml/2006/table">
            <a:tbl>
              <a:tblPr/>
              <a:tblGrid>
                <a:gridCol w="780840"/>
                <a:gridCol w="7140600"/>
              </a:tblGrid>
              <a:tr h="201600">
                <a:tc gridSpan="2">
                  <a:txBody>
                    <a:bodyPr lIns="66240" rIns="66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BLIOGRAFIA BÁ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EDES, Gilleanes T.A.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ML 2: Uma Abordagem Prática. 1ª Edição. São Paulo: Novatec, 20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ZLAWICK, Raul Sidnei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 Projeto de Sistemas de Informação Orientados a Objetos.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ª Edição. Rio de Janeiro: Campus, 20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ST, David; MCLAUGHLIN, Brett; POLLICE, Gary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a cabeça Análise &amp; Projeto Orientado ao Objeto.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ª Edição. Rio de Janeiro: Alta Books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gridSpan="2">
                  <a:txBody>
                    <a:bodyPr lIns="66240" rIns="66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 gridSpan="2">
                  <a:txBody>
                    <a:bodyPr lIns="66240" rIns="66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BLIOGRAFIA COMPLEMEN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33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AUJO, Ricardo;  LIMA, Cardoso André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L Aplicada: Da teoria à implementação.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ª Edição.  Rio de Janeiro: Ciência Moderna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OCH, Grady; RUMBAUGH, James;, JACOBSON, Ivar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L: Guia do Usuário.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ª Edição. Rio de Janeiro: Campus, 200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RMAN, Craig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ilizando UML e padrões: Uma introdução à análise e projeto orientados a objetos e ao desenvolvimento iterativo.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ª Edição. Porto Alegre: Bookman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A FILHO, Wilson de Pádua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genharia de Software: Fundamentos, métodos e padrões.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ª Edição. Rio de Janeiro: LTC, 20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VA, Nelson Peres da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 Estruturas de Sistemas de Informação.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ª Edição. São Paulo: Érica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E602-398D-4E8A-A83A-03C25D1CD467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3EF2-9ADE-4D31-9B06-FAA8588CA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62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spaço Reservado para Conteúdo 2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ensagens perdidas e Mensagens Encontr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er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ensagem enviada sem confirmação de receb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 não ter chegado ao destino ou ter sido enviada a um destino fora do dia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ncontr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cebimento de mensagem enviada por elemento desconhecido ou fora do diagrama ou ainda recebimento de uma mensagem que foi dada como perdida por tempo de espera exced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5913-0948-469C-B806-6E43C7F65E47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B5FD-FABD-419B-847C-0DE76DA5E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68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ço Reservado para Conteúdo 2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ensagens perdidas e Mensagens Encontradas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mbas são representadas por um circulo preench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Quando é mensagem perdida o circulo é atingido pela mensagem, quando é encontrada a mensagem  parte do circc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presentar troca de mensagens entre objetos localizados em máquinas diferentes e distantes, com comunicação realizada por protocolo de r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2DD1-FEFA-40F9-BF98-210C2D484CA8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6C23-CEDC-48F1-A7B2-6DC2AC319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74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spaço Reservado para Conteúdo 2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210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C46A-3F8F-45C0-8BAC-02E70F2A3C45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224D-EDCA-40DF-A168-24ACB35DB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81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rtas – Igual ao conceito explicado em diagrama de classes, representa um objeto no diagrama de sequencia contendo instancias das portas declaradas na classe a que ele pertence, dessa forma o objeto poderá ter mais de uma linha de vida permitindo representar mensagens internas e externas ao ob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s Portas s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representadas por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tângulos abaixo do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bjeto com linhas de vid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óp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496872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CA5A-7EF6-4811-B960-030BF4497928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8EA5-A018-4F0B-9C30-E28E9A9D2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88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os de Interação – Noções abstratas de interação g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pesar de ser um fragmento de interação é considerado uma interação difer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presentado por um retângulo que envolve toda a inte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388764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364A-0C68-4D88-8646-C1CD1D5BB8BA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680E-EDAB-4029-987F-03C0E03B7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corrências de Interação – Principal vantagem do uso de fragmento de interação é referenciar outro diagrama, não detalhado no diagrama em questão, referencia-se por meio do operado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f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(abreviação de Referred) , passou a chamar-se Uso de interação a partir do UML 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476360" y="3357720"/>
            <a:ext cx="615636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DE10-C1E7-43CF-A074-8E5B782F3AA8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E18D-728C-4195-A367-4D3EB8EDE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02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corrências de Interação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m ser uma simples chamada a outro fragmento de interação ou passar parâmetros e receber o reto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ssociaçã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nclus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xtens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m ser referenciadas no diagrama de sequencia por meio de ocorrências de interação como forma de documentar um caso de 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rtões (G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nterface entre fragmentos, ponto de conexão para relacionar uma mensagem fora de uma ocorrência de int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12:46:57Z</dcterms:created>
  <dc:creator>FedEx User</dc:creator>
  <dc:description/>
  <dc:language>en-US</dc:language>
  <cp:lastModifiedBy>sdas dsad</cp:lastModifiedBy>
  <dcterms:modified xsi:type="dcterms:W3CDTF">2016-06-08T12:26:26Z</dcterms:modified>
  <cp:revision>36</cp:revision>
  <dc:subject/>
  <dc:title>Slide 1</dc:title>
</cp:coreProperties>
</file>